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848-17EF-4621-91BB-C9E8AF667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0BF7-9AC4-4036-85D4-720AB1C63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950-A9EB-441F-95A3-96FC2B16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E43D-2B0D-4970-8359-BDA5CA14D4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EF5B-B4CB-405B-B9F1-D4FB8339DC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87B-252E-4FBB-90EB-20F77D641B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0A20-04CF-4613-A34A-579E3E5060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B90-6AD8-4D4B-B09F-5D06BB88FF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5A32-4D2B-4456-B443-7F0CC02407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243-191A-48C4-A16D-4F3789240C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5A98-A75F-4A49-A4A6-ED3AAC9255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720-BF1D-46EA-85D9-E259B41C77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072-2129-4294-B253-EDE858FFA5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3C50-4F49-4B50-9402-AE4BD322E6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AB35-D766-4BCE-AC31-F87DADF5A8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9387-9024-4F90-9576-940A48300F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54A8-8EF6-44D2-A63A-3D8F7084E1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1AF-3C90-418B-85DF-9D7F9FA2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A41A-2760-4AB1-99DF-2663FEB957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4D90-F0C8-44C9-8979-6E595229A2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DBD9-BA9A-45B4-9FD3-AE7D1E2A27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2DB5-0C36-4DC6-B9BB-DC0A751164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0B6A-FFFD-4BE1-A569-FD6BBA8D69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990-9512-4511-BA69-A721EF1CFF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FEB-27D4-4E7F-86A8-508EA45D8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BF49-5F7A-4E7B-9C45-AD841ADC8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C0D5-3010-4141-A11D-85CCD58109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D821-314C-47AF-8600-1DCC2643AE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380-0930-474D-8C02-5B6397D6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430-A7DD-48AD-ADDA-B6D146C1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DA8-F372-4296-9A3E-68856D7E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097-F49D-4C56-8635-E489CE16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C9C-DDF3-430D-AAA3-4318B37B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98B0-7E46-464B-9FBA-2840993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F25-2044-4A29-BF0A-D077A17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C80-0681-4B63-AFE5-E842438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F560-D73D-49CF-98B9-62B189A3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FA73-4E20-41C1-80DF-C5D0BEBB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755-2430-43A0-88A4-8D1C14B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83D-D32A-4BD0-B45F-369CB191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A7E3-694A-45E8-B5E6-DC0BF52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8ECC-3062-47DA-8A21-98AC837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832C-6D44-4E07-84F8-352D1501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8C9-FE7C-4060-8BC8-8F898F3B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815-66E0-402C-B129-D607754F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54F-CE8C-4711-A521-00762AB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255-1B5C-4BB6-A5A5-ED67303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3E4-AD34-4F13-8492-FC148CC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44F-D78E-4FF9-8EC4-957B0742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979-A4B2-4205-9A14-981387C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891-9945-4F3E-82EB-71E9357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25D-CBCA-4D14-841C-024C54D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432-6A46-482A-B8E0-ED4B746D3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CF9-6B0C-4730-8035-67ACD99C6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3suisses.fr/FrontOfficePortail/FicheProduit/10908/59354_LR_4_10369___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3suisses.fr/FrontOfficePortail/FicheProduit/11421/55341_LR__10369___.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spaces 6 B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s vêtements très c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Work-Shirt-Short-Sleeve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"/>
          <p:cNvSpPr/>
          <p:nvPr/>
        </p:nvSpPr>
        <p:spPr>
          <a:xfrm>
            <a:off x="457200" y="518004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chemise bleue à manches cour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 cost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ens_italian_suit"/>
          <p:cNvPicPr/>
          <p:nvPr/>
        </p:nvPicPr>
        <p:blipFill>
          <a:blip r:embed="rId1"/>
          <a:stretch/>
        </p:blipFill>
        <p:spPr>
          <a:xfrm>
            <a:off x="3286080" y="1600200"/>
            <a:ext cx="242892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5181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blou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4337752825_73b57d7423_m.jpg"/>
          <p:cNvPicPr/>
          <p:nvPr/>
        </p:nvPicPr>
        <p:blipFill>
          <a:blip r:embed="rId1"/>
          <a:stretch/>
        </p:blipFill>
        <p:spPr>
          <a:xfrm>
            <a:off x="3048120" y="2286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50292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9999ff"/>
                </a:solidFill>
                <a:latin typeface="Berlin Sans FB Demi"/>
              </a:rPr>
              <a:t>une cravate ble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3520" y="1447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55520" y="-555480"/>
            <a:ext cx="819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http://www.striped-neckties.com/wordpress/wp-content/uploads/2008/05/italian-striped-silk-tie.jpg"/>
          <p:cNvPicPr/>
          <p:nvPr/>
        </p:nvPicPr>
        <p:blipFill>
          <a:blip r:embed="rId1"/>
          <a:stretch/>
        </p:blipFill>
        <p:spPr>
          <a:xfrm>
            <a:off x="2971800" y="228600"/>
            <a:ext cx="3581280" cy="509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jean bleu fonc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0891"/>
          <p:cNvPicPr/>
          <p:nvPr/>
        </p:nvPicPr>
        <p:blipFill>
          <a:blip r:embed="rId1"/>
          <a:stretch/>
        </p:blipFill>
        <p:spPr>
          <a:xfrm>
            <a:off x="2987640" y="228600"/>
            <a:ext cx="341316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u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mages-1.jpeg"/>
          <p:cNvPicPr/>
          <p:nvPr/>
        </p:nvPicPr>
        <p:blipFill>
          <a:blip r:embed="rId1"/>
          <a:stretch/>
        </p:blipFill>
        <p:spPr>
          <a:xfrm>
            <a:off x="3200400" y="2362320"/>
            <a:ext cx="2006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anteau rou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taille-Madeleine-manteau-Medium-191753_L.jpg"/>
          <p:cNvPicPr/>
          <p:nvPr/>
        </p:nvPicPr>
        <p:blipFill>
          <a:blip r:embed="rId1"/>
          <a:stretch/>
        </p:blipFill>
        <p:spPr>
          <a:xfrm>
            <a:off x="3048120" y="1371600"/>
            <a:ext cx="2460600" cy="3780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anor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échar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 g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59006"/>
          <p:cNvPicPr/>
          <p:nvPr/>
        </p:nvPicPr>
        <p:blipFill>
          <a:blip r:embed="rId1"/>
          <a:stretch/>
        </p:blipFill>
        <p:spPr>
          <a:xfrm>
            <a:off x="380880" y="1523880"/>
            <a:ext cx="4067280" cy="406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593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s vêtements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’est-ce que c’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6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haussettes-tuyaux.jpg"/>
          <p:cNvPicPr/>
          <p:nvPr/>
        </p:nvPicPr>
        <p:blipFill>
          <a:blip r:embed="rId2"/>
          <a:stretch/>
        </p:blipFill>
        <p:spPr>
          <a:xfrm>
            <a:off x="1752480" y="533520"/>
            <a:ext cx="4572000" cy="4911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hauss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 bo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52280" y="838080"/>
            <a:ext cx="1295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#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55548"/>
          <p:cNvPicPr/>
          <p:nvPr/>
        </p:nvPicPr>
        <p:blipFill>
          <a:blip r:embed="rId1"/>
          <a:stretch/>
        </p:blipFill>
        <p:spPr>
          <a:xfrm>
            <a:off x="762120" y="1676520"/>
            <a:ext cx="3686040" cy="3686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553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33520" y="1447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071106_kcole_02c"/>
          <p:cNvPicPr/>
          <p:nvPr/>
        </p:nvPicPr>
        <p:blipFill>
          <a:blip r:embed="rId1"/>
          <a:stretch/>
        </p:blipFill>
        <p:spPr>
          <a:xfrm>
            <a:off x="1828800" y="22860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071106_kcole_02c"/>
          <p:cNvPicPr/>
          <p:nvPr/>
        </p:nvPicPr>
        <p:blipFill>
          <a:blip r:embed="rId2"/>
          <a:stretch/>
        </p:blipFill>
        <p:spPr>
          <a:xfrm>
            <a:off x="4800600" y="22096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762120" y="44956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des chauss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1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maillot de b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itizens_of_humanity_portrait_galeria.jpg"/>
          <p:cNvPicPr/>
          <p:nvPr/>
        </p:nvPicPr>
        <p:blipFill>
          <a:blip r:embed="rId1"/>
          <a:stretch/>
        </p:blipFill>
        <p:spPr>
          <a:xfrm>
            <a:off x="2587680" y="473040"/>
            <a:ext cx="3479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 baskets (fe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54864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ein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ceinture en cuir.jpg"/>
          <p:cNvPicPr/>
          <p:nvPr/>
        </p:nvPicPr>
        <p:blipFill>
          <a:blip r:embed="rId1"/>
          <a:stretch/>
        </p:blipFill>
        <p:spPr>
          <a:xfrm>
            <a:off x="1143000" y="914400"/>
            <a:ext cx="6350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chapea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beatrice_eugenie hats.jpg"/>
          <p:cNvPicPr/>
          <p:nvPr/>
        </p:nvPicPr>
        <p:blipFill>
          <a:blip r:embed="rId1"/>
          <a:stretch/>
        </p:blipFill>
        <p:spPr>
          <a:xfrm>
            <a:off x="1828800" y="838080"/>
            <a:ext cx="49672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sac à ma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sac-a-main-Louis-Vuitton.jpg"/>
          <p:cNvPicPr/>
          <p:nvPr/>
        </p:nvPicPr>
        <p:blipFill>
          <a:blip r:embed="rId1"/>
          <a:stretch/>
        </p:blipFill>
        <p:spPr>
          <a:xfrm>
            <a:off x="1854360" y="1211400"/>
            <a:ext cx="44449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4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casqu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00F2015601876298-photo-casquette-mlb-cortland-bleue.jpg"/>
          <p:cNvPicPr/>
          <p:nvPr/>
        </p:nvPicPr>
        <p:blipFill>
          <a:blip r:embed="rId1"/>
          <a:stretch/>
        </p:blipFill>
        <p:spPr>
          <a:xfrm>
            <a:off x="2955960" y="1322280"/>
            <a:ext cx="31179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cabula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oco-chanel"/>
          <p:cNvPicPr/>
          <p:nvPr/>
        </p:nvPicPr>
        <p:blipFill>
          <a:blip r:embed="rId1"/>
          <a:stretch/>
        </p:blipFill>
        <p:spPr>
          <a:xfrm>
            <a:off x="2666880" y="1600200"/>
            <a:ext cx="3492720" cy="4495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’est ch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 25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 lunettes de sole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ages.jpeg"/>
          <p:cNvPicPr/>
          <p:nvPr/>
        </p:nvPicPr>
        <p:blipFill>
          <a:blip r:embed="rId1"/>
          <a:stretch/>
        </p:blipFill>
        <p:spPr>
          <a:xfrm>
            <a:off x="1911240" y="1776240"/>
            <a:ext cx="4267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color i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hevreul.png"/>
          <p:cNvPicPr/>
          <p:nvPr/>
        </p:nvPicPr>
        <p:blipFill>
          <a:blip r:embed="rId1"/>
          <a:stretch/>
        </p:blipFill>
        <p:spPr>
          <a:xfrm>
            <a:off x="1117440" y="1306440"/>
            <a:ext cx="70358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–c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Rose-pink.jpg"/>
          <p:cNvPicPr/>
          <p:nvPr/>
        </p:nvPicPr>
        <p:blipFill>
          <a:blip r:embed="rId1"/>
          <a:stretch/>
        </p:blipFill>
        <p:spPr>
          <a:xfrm>
            <a:off x="1295280" y="1600200"/>
            <a:ext cx="5727960" cy="39495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quelle couleur est –ce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images-2.jpeg"/>
          <p:cNvPicPr/>
          <p:nvPr/>
        </p:nvPicPr>
        <p:blipFill>
          <a:blip r:embed="rId1"/>
          <a:stretch/>
        </p:blipFill>
        <p:spPr>
          <a:xfrm>
            <a:off x="2438280" y="1828800"/>
            <a:ext cx="3022560" cy="26924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r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  est –ce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baggy-pants.bmp"/>
          <p:cNvPicPr/>
          <p:nvPr/>
        </p:nvPicPr>
        <p:blipFill>
          <a:blip r:embed="rId1"/>
          <a:stretch/>
        </p:blipFill>
        <p:spPr>
          <a:xfrm>
            <a:off x="1959120" y="1547640"/>
            <a:ext cx="380988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43000" y="4572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ent  est –ce?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09480" y="556272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r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white-chekcer-pant"/>
          <p:cNvPicPr/>
          <p:nvPr/>
        </p:nvPicPr>
        <p:blipFill>
          <a:blip r:embed="rId1"/>
          <a:stretch/>
        </p:blipFill>
        <p:spPr>
          <a:xfrm>
            <a:off x="3657600" y="1276200"/>
            <a:ext cx="28195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#1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85800" y="198108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er bi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go wit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-ce que cela va bien ensembl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60948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 portes-tu aujourd’hui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14722.jpg"/>
          <p:cNvPicPr/>
          <p:nvPr/>
        </p:nvPicPr>
        <p:blipFill>
          <a:blip r:embed="rId1"/>
          <a:stretch/>
        </p:blipFill>
        <p:spPr>
          <a:xfrm>
            <a:off x="5562720" y="4191120"/>
            <a:ext cx="1617480" cy="1714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unnamed.jpg"/>
          <p:cNvPicPr/>
          <p:nvPr/>
        </p:nvPicPr>
        <p:blipFill>
          <a:blip r:embed="rId2"/>
          <a:stretch/>
        </p:blipFill>
        <p:spPr>
          <a:xfrm>
            <a:off x="5029200" y="1828800"/>
            <a:ext cx="27176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robe ble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mini-AnneMarie"/>
          <p:cNvPicPr/>
          <p:nvPr/>
        </p:nvPicPr>
        <p:blipFill>
          <a:blip r:embed="rId1"/>
          <a:stretch/>
        </p:blipFill>
        <p:spPr>
          <a:xfrm>
            <a:off x="3276720" y="380880"/>
            <a:ext cx="2619360" cy="4762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e jupe noi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215401310_5671bc38c9_o.jpg"/>
          <p:cNvPicPr/>
          <p:nvPr/>
        </p:nvPicPr>
        <p:blipFill>
          <a:blip r:embed="rId1"/>
          <a:stretch/>
        </p:blipFill>
        <p:spPr>
          <a:xfrm>
            <a:off x="2438280" y="660240"/>
            <a:ext cx="3683160" cy="469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8"/>
          <p:cNvSpPr/>
          <p:nvPr/>
        </p:nvSpPr>
        <p:spPr>
          <a:xfrm>
            <a:off x="304920" y="51814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ff"/>
                </a:solidFill>
                <a:latin typeface="Berlin Sans FB Demi"/>
              </a:rPr>
              <a:t>Un taille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lle.jpg"/>
          <p:cNvPicPr/>
          <p:nvPr/>
        </p:nvPicPr>
        <p:blipFill>
          <a:blip r:embed="rId1"/>
          <a:stretch/>
        </p:blipFill>
        <p:spPr>
          <a:xfrm>
            <a:off x="2046240" y="490680"/>
            <a:ext cx="3873600" cy="4978080"/>
          </a:xfrm>
          <a:prstGeom prst="rect">
            <a:avLst/>
          </a:prstGeom>
          <a:ln w="0">
            <a:noFill/>
          </a:ln>
        </p:spPr>
      </p:pic>
      <p:sp>
        <p:nvSpPr>
          <p:cNvPr id="114" name="Up Arrow 4"/>
          <p:cNvSpPr/>
          <p:nvPr/>
        </p:nvSpPr>
        <p:spPr>
          <a:xfrm>
            <a:off x="4303800" y="3657600"/>
            <a:ext cx="823680" cy="1671480"/>
          </a:xfrm>
          <a:prstGeom prst="upArrow">
            <a:avLst>
              <a:gd name="adj1" fmla="val 50000"/>
              <a:gd name="adj2" fmla="val 4995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50896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pantal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white-chekcer-pant"/>
          <p:cNvPicPr/>
          <p:nvPr/>
        </p:nvPicPr>
        <p:blipFill>
          <a:blip r:embed="rId1"/>
          <a:stretch/>
        </p:blipFill>
        <p:spPr>
          <a:xfrm>
            <a:off x="3429000" y="947880"/>
            <a:ext cx="3048120" cy="43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50896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Berlin Sans FB Demi"/>
              </a:rPr>
              <a:t>un chemisi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hemise-topshop.jpg"/>
          <p:cNvPicPr/>
          <p:nvPr/>
        </p:nvPicPr>
        <p:blipFill>
          <a:blip r:embed="rId1"/>
          <a:stretch/>
        </p:blipFill>
        <p:spPr>
          <a:xfrm>
            <a:off x="2743200" y="1143000"/>
            <a:ext cx="326376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04920" y="48020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Berlin Sans FB Demi"/>
              </a:rPr>
              <a:t>une chemise bl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447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guestofaguest.com/wp-content/uploads/2009/01/suspenders.jpg"/>
          <p:cNvPicPr/>
          <p:nvPr/>
        </p:nvPicPr>
        <p:blipFill>
          <a:blip r:embed="rId1"/>
          <a:stretch/>
        </p:blipFill>
        <p:spPr>
          <a:xfrm>
            <a:off x="2743200" y="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15:10Z</dcterms:created>
  <dc:creator>mgrasso2</dc:creator>
  <dc:description/>
  <dc:language>en-US</dc:language>
  <cp:lastModifiedBy>Viviane Grebert</cp:lastModifiedBy>
  <dcterms:modified xsi:type="dcterms:W3CDTF">2011-11-14T23:20:08Z</dcterms:modified>
  <cp:revision>32</cp:revision>
  <dc:subject/>
  <dc:title>Slide 1</dc:title>
</cp:coreProperties>
</file>